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BC1F-ACD7-48F2-9300-BF56FCC8F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627A-7260-4965-B3AD-FC6D6D43E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F5EF-3ABA-4EE4-A213-4E5DC0263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8C43-451D-40F2-985E-4E049A458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263F-3CD3-4056-9BF3-646BF46A3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308A-47BD-49E9-B55A-6FBDBDFC4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CC14-A1F4-4B0B-9A73-26CF9662A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EA06-490C-41A1-A1C3-79D8D9F30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D027-EB7B-44BA-96E5-56B2E31DD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E366-E7D5-45C5-A4E8-5542CA9D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538E-F9BA-44D8-85BA-2770F957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F4C9-A418-4CC0-A091-A83C6DD5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5EEF0-76A8-46B6-9B30-19D34F2A2C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Myopia" TargetMode="External"/><Relationship Id="rId2" Type="http://schemas.openxmlformats.org/officeDocument/2006/relationships/hyperlink" Target="http://en.wikipedia.org/wiki/Fluorescent_light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15000" y="5791320"/>
            <a:ext cx="30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pared by: Zheng Ya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5 Resi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981080" y="2552760"/>
            <a:ext cx="533412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My IRS Presentation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ckground information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Myopi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4640" indent="-404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opia is a refractive defect of the eye in which light produces image focus in front of the retina when accommodation is relax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se with myopia see near objects clearly but far away objects will appear blurr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stream eye care professionals most commonly correct myopia through the use of corrective lenses, such as glasses or contact len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Kinds of Light We Commonly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114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uoresc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l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andesc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-emitting diode (L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0" y="1219320"/>
            <a:ext cx="2209680" cy="1639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590920" y="2057400"/>
            <a:ext cx="1733400" cy="1617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019920" y="3054240"/>
            <a:ext cx="2514600" cy="16700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4381560" y="4800600"/>
            <a:ext cx="179064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y Research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8487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re a relationship between the kind of light you use affect the chances of the development or worsening of myopia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447920" y="3809880"/>
            <a:ext cx="2819160" cy="19018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257800" y="4419720"/>
            <a:ext cx="147960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a relationship between the type of light you use affect the chances of development or worsening of myop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ly, I will make my hypothe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, I will plan out my survey and seek permission from the teacher in char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that, I will distribute the survey to no less than 50 P5 pupils in my scho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ollecting back all the surveys, I will compile my gathered data into a simple 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, I will use the table and put the information into a presen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ly, I will check for err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ctors Affecting My Surv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mount of eye rest in a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ther the person practices good eye care hab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time spent on outdoor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ount of near work in a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ank You For Your Kind Attentio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n.wikipedia.org/wiki/Myop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n.wikipedia.org/wiki/Fluorescent_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0T06:59:59Z</dcterms:created>
  <dc:creator>ECZY</dc:creator>
  <dc:description/>
  <dc:language>en-US</dc:language>
  <cp:lastModifiedBy>john one</cp:lastModifiedBy>
  <dcterms:modified xsi:type="dcterms:W3CDTF">2010-04-10T11:52:57Z</dcterms:modified>
  <cp:revision>7</cp:revision>
  <dc:subject/>
  <dc:title>Slide 1</dc:title>
</cp:coreProperties>
</file>